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35606-46D6-43F2-9B9D-88F0484316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D0687-3261-4268-B8D6-4E99ACE7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576DD-A578-472E-A89A-A971E6C4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1CC65-C073-4F03-95D6-04554C5A09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51302-F880-4147-9D51-6098E7AC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6AD8E-3216-45EF-96A1-50F01617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47E3D-4BD4-4E61-BFB0-F0A58B2B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E1013-BA4F-4C27-912E-1F087ACAA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BA705-39B3-4B4B-9CF4-A12026ED9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84FB1-B28A-4F06-BB43-214EC64B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A1FC7-0325-4ACE-A004-7D604C50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D99D8-C55E-46AE-9BEB-55F04580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3BC431-FC50-47B3-BDEB-CA6682BEB42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Research Paper 1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  <a:ea typeface="Droid Sans Fallback"/>
              </a:rPr>
              <a:t>The Basics of Writing a Research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Exampl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Because many teens are feeling its effects, bullying impacts a variety of people in three main ways: ______________, ___________, and 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Even though people from all over the world are feeling its effects, global warming impacts the world in these ways:  ____________, ___________, and 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What is a Thesis Statem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The thesis statement is a sentence that clearly tells what you will cover in your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The thesis statement lists, in order, the two or more subtopics you plan to write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This sentence is the key—a strong thesis leads to a strong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2746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The Thesis State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914400"/>
            <a:ext cx="82296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Now, look at the statement you wrote as a working thesis statement and, using this information, set the tone for the paper by stating what you want people to know after reading your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Remind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It needs to be at least “two-pronge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It needs to be in present te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It needs to list the topics of your paper in the order in which they will app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Sample Thesis Stat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Because many people are feeling its effects, bullying needs to be addressed by society, schools, parents, and te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Even though the law has been around for over 30 years, Title IX impacts both men and women in high school and college athlet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Despite the fact that sex trafficking has been illegal for many years, teens are being trapped into this lifestyle in a variety of w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Because of its potential health benefits, the positives and negatives of this research need to be understood by proponents and detractors a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The Next Step:  The Outline/Graphic Organiz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Outlines/Graphic Organizers not only help you to see what information you have but also the information that you are mis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We will provide you with an out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The more complete your outline is, the easier it will be to write the rough dra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Be sure to document where you found the information you are using in your essay now so that you do not forget to cite it in your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WRITING THE ROUGH DRA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2160" y="2906640"/>
            <a:ext cx="77724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  <a:ea typeface="Droid Sans Fallback"/>
              </a:rPr>
              <a:t>Using a graphic organiz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The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Attention getter—no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Suggestions:  quotes, statistics, shocking facts, or anecdo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Brief summary of the entire essay—think overview—consider adding a small amount of background information if you aren’t going to have a background paragrap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Transition statement leading to the thesi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Thesis statement—always the last sentence of the intr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Body paragraphs will each have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. . .a transitional word or phrase which indicates order at the beginn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. . .information which has been paraphrased, summarized, or directly quoted and cited correctl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. . .explanations of the facts cited in the paragrap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. . .a summary statement that ties up the paragrap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. . .at least 10 senten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. . .remember, the evidence you use must be explained, so even though you may not follow the 12-sentence paragraph format exactly, you need to provide analysis for the evidence you us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Remember to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. . .summarize and explain the subtopics </a:t>
            </a:r>
            <a:r>
              <a:rPr b="1" lang="en-US" sz="37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in the order listed</a:t>
            </a: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 in the thesis statemen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Educate your readers about the facts of your topic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Provide some sort of analysis about the information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What does the research really mean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Concluding Paragraphs should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. . .summarize the paper’s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. . .tie everything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. . .restate thesis but not word for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. . .leave all questions answ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. . .reiterate the “so what” of the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A Few Words About Research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Research involves reading information, deciding if you can use that information, deciding what, if anything, needs to be in direct quotes, and putting all other information in your own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Remember:  it’s a lot easier to document where you find the information as you research than after you are done researc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Next ste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As you fill out the graphic organizer, check to see if there are any holes in the research you have done.  If there is, research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Keep the thesis statement of your paper in mind as you write to be sure you are providing the information you said you wou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On the graphic organizer, cite everything that you learned in your resea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Rough draft is due December 19, 201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THE FINAL CO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2160" y="2906640"/>
            <a:ext cx="77724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Formal Papers Don’t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. . .use the word you—ever—in any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. . .use I—this is not an opinion paper, so what you believe isn’t importan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. . .use contractions—contractions are considered informal in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. . .exclamation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Formal Papers do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. . .have a title that is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Unique and doesn’t just state the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Capitalized cor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Have a header on the first page with the following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Student first and last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Course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Due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Formal Papers Do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. . .have page numbers in the upper right-hand corner on each page except the title page using your last name and the page numb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Ollenburg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. . .typed, using size 12 font—nothing fancy, no excep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. . .have margins set at one in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. . .have a Works Cited page that is formatted correctly and alphabetized at the end of the pap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Helpful H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121932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Cite all sources. . .Real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Expect to rewrite and ed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Have someone other than your English teacher look through your pap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Mr. Koestler in the Writing lab is very willing to help—see him to make an appointment to have another adult read your rough draf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Before handing your paper in, read it out loud and listen for errors and things that don’t make sense.  Remember, your brain works faster than your han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Check for words/expressions that are commonly confus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More Helpful H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Be sure the tense of your paper is consist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If the topic / issue occurred in the past, use past te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If the issue is a current one, be sure to write the current issue in present te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Make sure the internal citations are correctly format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47fd8"/>
                </a:solidFill>
                <a:latin typeface="Calibri"/>
                <a:ea typeface="Droid Sans Fallback"/>
              </a:rPr>
              <a:t>A Works Cited Page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36680" indent="-3193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1920960"/>
                <a:tab algn="l" pos="2835360"/>
                <a:tab algn="l" pos="3749760"/>
                <a:tab algn="l" pos="4664160"/>
                <a:tab algn="l" pos="5578560"/>
                <a:tab algn="l" pos="6492960"/>
                <a:tab algn="l" pos="7407360"/>
                <a:tab algn="l" pos="8321760"/>
                <a:tab algn="l" pos="9236160"/>
                <a:tab algn="l" pos="1015056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is alphabetized by author’s last name or, if author is not give, the first main word of a tit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6680" indent="-3193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1920960"/>
                <a:tab algn="l" pos="2835360"/>
                <a:tab algn="l" pos="3749760"/>
                <a:tab algn="l" pos="4664160"/>
                <a:tab algn="l" pos="5578560"/>
                <a:tab algn="l" pos="6492960"/>
                <a:tab algn="l" pos="7407360"/>
                <a:tab algn="l" pos="8321760"/>
                <a:tab algn="l" pos="9236160"/>
                <a:tab algn="l" pos="1015056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uses MLA 7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1920960"/>
                <a:tab algn="l" pos="2835360"/>
                <a:tab algn="l" pos="3749760"/>
                <a:tab algn="l" pos="4664160"/>
                <a:tab algn="l" pos="5578560"/>
                <a:tab algn="l" pos="6492960"/>
                <a:tab algn="l" pos="7407360"/>
                <a:tab algn="l" pos="8321760"/>
                <a:tab algn="l" pos="9236160"/>
                <a:tab algn="l" pos="101505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hanging ind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1920960"/>
                <a:tab algn="l" pos="2835360"/>
                <a:tab algn="l" pos="3749760"/>
                <a:tab algn="l" pos="4664160"/>
                <a:tab algn="l" pos="5578560"/>
                <a:tab algn="l" pos="6492960"/>
                <a:tab algn="l" pos="7407360"/>
                <a:tab algn="l" pos="8321760"/>
                <a:tab algn="l" pos="9236160"/>
                <a:tab algn="l" pos="101505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double sp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3193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1920960"/>
                <a:tab algn="l" pos="2835360"/>
                <a:tab algn="l" pos="3749760"/>
                <a:tab algn="l" pos="4664160"/>
                <a:tab algn="l" pos="5578560"/>
                <a:tab algn="l" pos="6492960"/>
                <a:tab algn="l" pos="7407360"/>
                <a:tab algn="l" pos="8321760"/>
                <a:tab algn="l" pos="9236160"/>
                <a:tab algn="l" pos="1015056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lists all sources used for the essa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1920960"/>
                <a:tab algn="l" pos="2835360"/>
                <a:tab algn="l" pos="3749760"/>
                <a:tab algn="l" pos="4664160"/>
                <a:tab algn="l" pos="5578560"/>
                <a:tab algn="l" pos="6492960"/>
                <a:tab algn="l" pos="7407360"/>
                <a:tab algn="l" pos="8321760"/>
                <a:tab algn="l" pos="9236160"/>
                <a:tab algn="l" pos="101505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if using EasyBib or CitationMachine, all required information is 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1920960"/>
                <a:tab algn="l" pos="2835360"/>
                <a:tab algn="l" pos="3749760"/>
                <a:tab algn="l" pos="4664160"/>
                <a:tab algn="l" pos="5578560"/>
                <a:tab algn="l" pos="6492960"/>
                <a:tab algn="l" pos="7407360"/>
                <a:tab algn="l" pos="8321760"/>
                <a:tab algn="l" pos="9236160"/>
                <a:tab algn="l" pos="101505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websites need more than a URL; if there is no author or sponsoring organization, the website isn’t considered reliable and shouldn’t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1920960"/>
                <a:tab algn="l" pos="2835360"/>
                <a:tab algn="l" pos="3749760"/>
                <a:tab algn="l" pos="4664160"/>
                <a:tab algn="l" pos="5578560"/>
                <a:tab algn="l" pos="6492960"/>
                <a:tab algn="l" pos="7407360"/>
                <a:tab algn="l" pos="8321760"/>
                <a:tab algn="l" pos="9236160"/>
                <a:tab algn="l" pos="101505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Wikipedia is NOT a reliabl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1920960"/>
                <a:tab algn="l" pos="2835360"/>
                <a:tab algn="l" pos="3749760"/>
                <a:tab algn="l" pos="4664160"/>
                <a:tab algn="l" pos="5578560"/>
                <a:tab algn="l" pos="6492960"/>
                <a:tab algn="l" pos="7407360"/>
                <a:tab algn="l" pos="8321760"/>
                <a:tab algn="l" pos="9236160"/>
                <a:tab algn="l" pos="101505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Think about using different databases where many of the citations are provided for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One other thing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Paraphrasing and summarizing are very import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Summarizing involves putting the main idea of an article in your own wor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Paraphrasing involves putting more specific parts of the article in your own wor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Save quoting material for things that are so important that you HAVE to use the author’s wor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Remember, whether you summarize, paraphrase, or quote, you must cite the inform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WHAT SHOULD I BE LOOKING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22160" y="2906640"/>
            <a:ext cx="77724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Well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Remember the questions you asked about your topic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Background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Different beliefs people have about the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Current events that are happening because of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Examples, statistics, reasons for the topic or the sides of the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Unusual data about the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NOW THAT I AM FINDING INFORMATION, WHAT HAPPENS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2160" y="2906640"/>
            <a:ext cx="77724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  <a:ea typeface="Droid Sans Fallback"/>
              </a:rPr>
              <a:t>Creating a thesis statement and filling out the graphic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Organizing th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Once you start acquiring information, you will need to organiz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Group similar ideas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Label the ideas some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you can highlight similar ideas in the same color, for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Create a working thesis—a statement that will probably change as you research but that summarizes the information you have.  (See the hand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The Working Thesis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The first step in writing a thesis statement is to specify the purpose of your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The purpose of this paper is to investigate ______________ and understand ____________, _____________, and 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Please note:  You will not use this statement in your paper; you will use its ideas to create a thesis sta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3200400"/>
            <a:ext cx="2286000" cy="30492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24480" y="3200400"/>
            <a:ext cx="1905120" cy="30492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b 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581280"/>
            <a:ext cx="1905120" cy="30492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b 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73520" y="3581280"/>
            <a:ext cx="1905120" cy="30492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b 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The Working Thesis state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To the purpose statement you just created, add the “so what.” statement, add the “so wha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Because ______________________, __________ impacts/creates/establishes/identifies/justifies a variety of ____________ in three main ways:_____________, ________________, and 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3200400"/>
            <a:ext cx="3048120" cy="30492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 wh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81680" y="3200400"/>
            <a:ext cx="1573200" cy="30492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4114800"/>
            <a:ext cx="1904760" cy="30492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09680" y="4572000"/>
            <a:ext cx="1905120" cy="30492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b 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4648320"/>
            <a:ext cx="1905120" cy="30456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b 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4952880"/>
            <a:ext cx="1905120" cy="30492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b 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0:21:58Z</dcterms:created>
  <dc:creator>Windows User</dc:creator>
  <dc:description/>
  <dc:language>en-US</dc:language>
  <cp:lastModifiedBy>OLLENBURG, LINDA</cp:lastModifiedBy>
  <dcterms:modified xsi:type="dcterms:W3CDTF">2014-11-24T19:51:57Z</dcterms:modified>
  <cp:revision>36</cp:revision>
  <dc:subject/>
  <dc:title>Research Paper 101</dc:title>
</cp:coreProperties>
</file>