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206400" cy="329184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AC0-4066-4857-8D8D-AA070B06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40120" y="2925720"/>
            <a:ext cx="43526160" cy="54864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4807080"/>
                <a:tab algn="l" pos="9613800"/>
              </a:tabLst>
            </a:pPr>
            <a:endParaRPr b="0" lang="en-US" sz="2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0120" y="9509040"/>
            <a:ext cx="4352616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40120" y="19825920"/>
            <a:ext cx="4352616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71E-6E01-4DF1-A329-8EC818CA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40120" y="2925720"/>
            <a:ext cx="43526160" cy="54864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4807080"/>
                <a:tab algn="l" pos="9613800"/>
              </a:tabLst>
            </a:pPr>
            <a:endParaRPr b="0" lang="en-US" sz="2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40120" y="9509040"/>
            <a:ext cx="2124072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43200" y="9509040"/>
            <a:ext cx="2124072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40120" y="19825920"/>
            <a:ext cx="2124072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43200" y="19825920"/>
            <a:ext cx="2124072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148-EA42-46D0-BF6F-127AAB2E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40120" y="2925720"/>
            <a:ext cx="43526160" cy="54864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4807080"/>
                <a:tab algn="l" pos="9613800"/>
              </a:tabLst>
            </a:pPr>
            <a:endParaRPr b="0" lang="en-US" sz="2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40120" y="9509040"/>
            <a:ext cx="1401516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556560" y="9509040"/>
            <a:ext cx="1401516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272640" y="9509040"/>
            <a:ext cx="1401516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40120" y="19825920"/>
            <a:ext cx="1401516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556560" y="19825920"/>
            <a:ext cx="1401516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272640" y="19825920"/>
            <a:ext cx="1401516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98A-CAB3-4D45-94C8-DE545FAB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40120" y="2925720"/>
            <a:ext cx="43526160" cy="54864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4807080"/>
                <a:tab algn="l" pos="9613800"/>
              </a:tabLst>
            </a:pPr>
            <a:endParaRPr b="0" lang="en-US" sz="2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40120" y="9509040"/>
            <a:ext cx="4352616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8B2-73A5-425B-97D0-4E584DAE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40120" y="2925720"/>
            <a:ext cx="43526160" cy="54864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4807080"/>
                <a:tab algn="l" pos="9613800"/>
              </a:tabLst>
            </a:pPr>
            <a:endParaRPr b="0" lang="en-US" sz="2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40120" y="9509040"/>
            <a:ext cx="43526160" cy="197517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351-0524-4782-A4B4-6E847CB1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40120" y="2925720"/>
            <a:ext cx="43526160" cy="54864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4807080"/>
                <a:tab algn="l" pos="9613800"/>
              </a:tabLst>
            </a:pPr>
            <a:endParaRPr b="0" lang="en-US" sz="2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0120" y="9509040"/>
            <a:ext cx="21240720" cy="197517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43200" y="9509040"/>
            <a:ext cx="21240720" cy="197517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0A8-50B9-451E-958C-2AC97AEA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40120" y="2925720"/>
            <a:ext cx="43526160" cy="54864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4807080"/>
                <a:tab algn="l" pos="9613800"/>
              </a:tabLst>
            </a:pPr>
            <a:endParaRPr b="0" lang="en-US" sz="2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2B3-518A-40CA-8BEA-2E38B1B4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40120" y="2925720"/>
            <a:ext cx="4352616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B4B-A80A-4FFA-9829-8B8DAF09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40120" y="2925720"/>
            <a:ext cx="43526160" cy="54864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4807080"/>
                <a:tab algn="l" pos="9613800"/>
              </a:tabLst>
            </a:pPr>
            <a:endParaRPr b="0" lang="en-US" sz="2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40120" y="9509040"/>
            <a:ext cx="2124072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43200" y="9509040"/>
            <a:ext cx="21240720" cy="197517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0120" y="19825920"/>
            <a:ext cx="2124072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037-A838-46FE-8FF5-1E9DD924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40120" y="2925720"/>
            <a:ext cx="43526160" cy="54864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4807080"/>
                <a:tab algn="l" pos="9613800"/>
              </a:tabLst>
            </a:pPr>
            <a:endParaRPr b="0" lang="en-US" sz="2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0120" y="9509040"/>
            <a:ext cx="21240720" cy="197517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43200" y="9509040"/>
            <a:ext cx="2124072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43200" y="19825920"/>
            <a:ext cx="2124072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3A6-1E9D-4F87-9808-FEBAFCF2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40120" y="2925720"/>
            <a:ext cx="43526160" cy="54864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4807080"/>
                <a:tab algn="l" pos="9613800"/>
              </a:tabLst>
            </a:pPr>
            <a:endParaRPr b="0" lang="en-US" sz="2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0120" y="9509040"/>
            <a:ext cx="2124072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43200" y="9509040"/>
            <a:ext cx="2124072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40120" y="19825920"/>
            <a:ext cx="43526160" cy="94215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4807080"/>
                <a:tab algn="l" pos="9613800"/>
              </a:tabLst>
            </a:pP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883-D9AE-42FB-A26C-F389BF5E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40120" y="2925720"/>
            <a:ext cx="43526160" cy="548640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ctr">
            <a:noAutofit/>
          </a:bodyPr>
          <a:p>
            <a:pPr indent="0" algn="ctr">
              <a:buNone/>
              <a:tabLst>
                <a:tab algn="l" pos="0"/>
                <a:tab algn="l" pos="4807080"/>
                <a:tab algn="l" pos="9613800"/>
              </a:tabLst>
            </a:pPr>
            <a:r>
              <a:rPr b="0" lang="en-US" sz="2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0120" y="9509040"/>
            <a:ext cx="43526160" cy="1975176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rmAutofit fontScale="91000"/>
          </a:bodyPr>
          <a:p>
            <a:pPr marL="1640880" indent="-1640880">
              <a:spcBef>
                <a:spcPts val="4201"/>
              </a:spcBef>
              <a:buClr>
                <a:srgbClr val="000000"/>
              </a:buClr>
              <a:buFont typeface="Times New Roman"/>
              <a:buChar char="•"/>
              <a:tabLst>
                <a:tab algn="l" pos="4807080"/>
                <a:tab algn="l" pos="961380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53560" indent="-136656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4807080"/>
                <a:tab algn="l" pos="961380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  <a:p>
            <a:pPr lvl="2" marL="5467680" indent="-1093320">
              <a:spcBef>
                <a:spcPts val="4201"/>
              </a:spcBef>
              <a:buClr>
                <a:srgbClr val="000000"/>
              </a:buClr>
              <a:buFont typeface="Times New Roman"/>
              <a:buChar char="•"/>
              <a:tabLst>
                <a:tab algn="l" pos="4807080"/>
                <a:tab algn="l" pos="961380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  <a:p>
            <a:pPr lvl="3" marL="7654680" indent="-109332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4807080"/>
                <a:tab algn="l" pos="961380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  <a:p>
            <a:pPr lvl="4" marL="9842040" indent="-109332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4807080"/>
                <a:tab algn="l" pos="961380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  <a:p>
            <a:pPr lvl="5" marL="9842040" indent="-109332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4807080"/>
                <a:tab algn="l" pos="961380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  <a:p>
            <a:pPr lvl="6" marL="9842040" indent="-109332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4807080"/>
                <a:tab algn="l" pos="961380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39760" y="29992680"/>
            <a:ext cx="10667880" cy="21938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Autofit/>
          </a:bodyPr>
          <a:lstStyle>
            <a:lvl1pPr indent="0">
              <a:buNone/>
              <a:tabLst>
                <a:tab algn="l" pos="0"/>
                <a:tab algn="l" pos="4807080"/>
                <a:tab algn="l" pos="9613800"/>
              </a:tabLst>
              <a:defRPr b="0" lang="en-US" sz="7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807080"/>
                <a:tab algn="l" pos="96138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96000" y="29992680"/>
            <a:ext cx="16214400" cy="21938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Autofit/>
          </a:bodyPr>
          <a:lstStyle>
            <a:lvl1pPr indent="0" algn="ctr">
              <a:buNone/>
              <a:tabLst>
                <a:tab algn="l" pos="0"/>
                <a:tab algn="l" pos="4807080"/>
                <a:tab algn="l" pos="9613800"/>
              </a:tabLst>
              <a:defRPr b="0" lang="en-US" sz="7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807080"/>
                <a:tab algn="l" pos="96138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698040" y="29992680"/>
            <a:ext cx="10667880" cy="2193840"/>
          </a:xfrm>
          <a:prstGeom prst="rect">
            <a:avLst/>
          </a:prstGeom>
          <a:noFill/>
          <a:ln w="0">
            <a:noFill/>
          </a:ln>
        </p:spPr>
        <p:txBody>
          <a:bodyPr lIns="480600" rIns="480600" tIns="240480" bIns="240480" anchor="t">
            <a:noAutofit/>
          </a:bodyPr>
          <a:lstStyle>
            <a:lvl1pPr indent="0" algn="r">
              <a:buNone/>
              <a:tabLst>
                <a:tab algn="l" pos="0"/>
                <a:tab algn="l" pos="4807080"/>
                <a:tab algn="l" pos="9613800"/>
              </a:tabLst>
              <a:defRPr b="0" lang="en-US" sz="7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807080"/>
                <a:tab algn="l" pos="9613800"/>
              </a:tabLst>
            </a:pPr>
            <a:fld id="{8E5493B1-AC55-48DE-9F05-FE1FB2FCBBA8}" type="slidenum"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725400"/>
            <a:ext cx="4270320" cy="4303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098000" y="762120"/>
            <a:ext cx="4270320" cy="4303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060400" y="7315200"/>
            <a:ext cx="11658600" cy="91440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0">
            <a:noFill/>
          </a:ln>
          <a:effectLst>
            <a:outerShdw dist="251503" dir="2700000" blurRad="0" rotWithShape="0">
              <a:srgbClr val="7878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3920" rIns="4392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Results - con’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633400" y="26822520"/>
            <a:ext cx="11658600" cy="91440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0">
            <a:noFill/>
          </a:ln>
          <a:effectLst>
            <a:outerShdw dist="251503" dir="2700000" blurRad="0" rotWithShape="0">
              <a:srgbClr val="7878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3920" rIns="4392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633400" y="22250520"/>
            <a:ext cx="11658600" cy="91440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0">
            <a:noFill/>
          </a:ln>
          <a:effectLst>
            <a:outerShdw dist="251503" dir="2700000" blurRad="0" rotWithShape="0">
              <a:srgbClr val="7878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3920" rIns="4392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Verdana"/>
              </a:rPr>
              <a:t>	</a:t>
            </a:r>
            <a:r>
              <a:rPr b="1" lang="en-US" sz="4400" spc="-1" strike="noStrike">
                <a:solidFill>
                  <a:srgbClr val="fafd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633400" y="16687800"/>
            <a:ext cx="11658600" cy="91440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0">
            <a:noFill/>
          </a:ln>
          <a:effectLst>
            <a:outerShdw dist="251503" dir="2700000" blurRad="0" rotWithShape="0">
              <a:srgbClr val="7878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3920" rIns="4392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Verdan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4841080"/>
            <a:ext cx="11658600" cy="91440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0">
            <a:noFill/>
          </a:ln>
          <a:effectLst>
            <a:outerShdw dist="251503" dir="2700000" blurRad="0" rotWithShape="0">
              <a:srgbClr val="7878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3920" rIns="4392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9431000"/>
            <a:ext cx="11658600" cy="91440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0">
            <a:noFill/>
          </a:ln>
          <a:effectLst>
            <a:outerShdw dist="251503" dir="2700000" blurRad="0" rotWithShape="0">
              <a:srgbClr val="7878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3920" rIns="4392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487400" y="7315200"/>
            <a:ext cx="11658600" cy="91440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0">
            <a:noFill/>
          </a:ln>
          <a:effectLst>
            <a:outerShdw dist="251503" dir="2700000" blurRad="0" rotWithShape="0">
              <a:srgbClr val="7878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3920" rIns="4392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487400" y="22631400"/>
            <a:ext cx="11658600" cy="91440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0">
            <a:noFill/>
          </a:ln>
          <a:effectLst>
            <a:outerShdw dist="251503" dir="2700000" blurRad="0" rotWithShape="0">
              <a:srgbClr val="7878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3920" rIns="4392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Verdan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7315200"/>
            <a:ext cx="11658600" cy="91440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0">
            <a:noFill/>
          </a:ln>
          <a:effectLst>
            <a:outerShdw dist="251503" dir="2700000" blurRad="0" rotWithShape="0">
              <a:srgbClr val="7878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3920" rIns="4392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633400" y="7315200"/>
            <a:ext cx="11658600" cy="91440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0">
            <a:noFill/>
          </a:ln>
          <a:effectLst>
            <a:outerShdw dist="251503" dir="2700000" blurRad="0" rotWithShape="0">
              <a:srgbClr val="7878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3920" rIns="4392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Verdan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Results - con’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868320"/>
            <a:ext cx="40143240" cy="374796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0">
            <a:noFill/>
          </a:ln>
          <a:effectLst>
            <a:outerShdw dist="278725" dir="1804519" blurRad="0" rotWithShape="0">
              <a:srgbClr val="7878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6200" rIns="196200" tIns="182880" bIns="1011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7080"/>
                <a:tab algn="l" pos="9613800"/>
              </a:tabLst>
            </a:pPr>
            <a:r>
              <a:rPr b="1" lang="en-CA" sz="9600" spc="-1" strike="noStrike">
                <a:solidFill>
                  <a:srgbClr val="ffffff"/>
                </a:solidFill>
                <a:latin typeface="Century Gothic"/>
              </a:rPr>
              <a:t>The Sample Scientific Poster - Using Microsoft Office Power Point Templ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84960" y="4756320"/>
            <a:ext cx="38588760" cy="233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6200" rIns="196200" tIns="101160" bIns="10116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0" spc="-1" strike="noStrike">
                <a:solidFill>
                  <a:srgbClr val="4d4d4d"/>
                </a:solidFill>
                <a:latin typeface="Tw Cen MT Condensed"/>
              </a:rPr>
              <a:t>T. Farra</a:t>
            </a:r>
            <a:r>
              <a:rPr b="1" lang="en-CA" sz="8000" spc="-1" strike="noStrike" baseline="30000">
                <a:solidFill>
                  <a:srgbClr val="4d4d4d"/>
                </a:solidFill>
                <a:latin typeface="Tw Cen MT Condensed"/>
              </a:rPr>
              <a:t>1</a:t>
            </a:r>
            <a:r>
              <a:rPr b="1" lang="en-CA" sz="8000" spc="-1" strike="noStrike">
                <a:solidFill>
                  <a:srgbClr val="4d4d4d"/>
                </a:solidFill>
                <a:latin typeface="Tw Cen MT Condensed"/>
              </a:rPr>
              <a:t>, M. Jacisin</a:t>
            </a:r>
            <a:r>
              <a:rPr b="1" lang="en-CA" sz="8000" spc="-1" strike="noStrike" baseline="30000">
                <a:solidFill>
                  <a:srgbClr val="4d4d4d"/>
                </a:solidFill>
                <a:latin typeface="Tw Cen MT Condensed"/>
              </a:rPr>
              <a:t>2</a:t>
            </a:r>
            <a:br>
              <a:rPr sz="8000"/>
            </a:br>
            <a:r>
              <a:rPr b="1" lang="en-CA" sz="6000" spc="-1" strike="noStrike" baseline="30000">
                <a:solidFill>
                  <a:srgbClr val="4d4d4d"/>
                </a:solidFill>
                <a:latin typeface="Tw Cen MT Condensed"/>
              </a:rPr>
              <a:t>1</a:t>
            </a:r>
            <a:r>
              <a:rPr b="1" lang="en-CA" sz="6000" spc="-1" strike="noStrike">
                <a:solidFill>
                  <a:srgbClr val="4d4d4d"/>
                </a:solidFill>
                <a:latin typeface="Tw Cen MT Condensed"/>
              </a:rPr>
              <a:t>Brigham and Womens Hospital, </a:t>
            </a:r>
            <a:r>
              <a:rPr b="1" lang="en-CA" sz="6000" spc="-1" strike="noStrike" baseline="30000">
                <a:solidFill>
                  <a:srgbClr val="4d4d4d"/>
                </a:solidFill>
                <a:latin typeface="Tw Cen MT Condensed"/>
              </a:rPr>
              <a:t>2</a:t>
            </a:r>
            <a:r>
              <a:rPr b="1" lang="en-CA" sz="6000" spc="-1" strike="noStrike">
                <a:solidFill>
                  <a:srgbClr val="4d4d4d"/>
                </a:solidFill>
                <a:latin typeface="Tw Cen MT Condensed"/>
              </a:rPr>
              <a:t>New England College of Optometry, Boston, 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6:42:36Z</dcterms:created>
  <dc:creator>Marek Jacisin</dc:creator>
  <dc:description/>
  <dc:language>en-US</dc:language>
  <cp:lastModifiedBy>LiLynn Graves</cp:lastModifiedBy>
  <dcterms:modified xsi:type="dcterms:W3CDTF">2005-11-23T14:49:35Z</dcterms:modified>
  <cp:revision>9</cp:revision>
  <dc:subject>Poster Template</dc:subject>
  <dc:title>PowerPoint Poster Template</dc:title>
</cp:coreProperties>
</file>