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8E6-B2DD-4626-882A-01D415B1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E1B-666D-4631-A9E7-664C5816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1C0-F120-4DC9-8985-0190F605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46D-1A6E-4A3E-A3DC-32A50A22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ABA5-8CF1-4E14-B559-FC2D48BD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7D4B-4919-4C1E-8EA3-4E705F04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2C6-5B55-4194-9B75-3508F60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26D-3572-46AB-9C9D-77C4E999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3C3-A8C1-4B2F-A5D9-45DB4D77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66F-5909-49CB-A97E-F80EE88B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A467-CFC3-4DD9-9D85-B76F058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318-9183-48A0-B56C-0CA1C029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BEF-DEAF-4744-8B97-5DB28C9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574-E9BF-4806-9278-1E324244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FCE6-FD86-4C36-BB10-8B1847A4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6400-75CF-488D-85CF-8581BEAD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EEF3-938B-41DD-9081-EB839F12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A4BE-29A6-4BC7-9C02-0C7F8E52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1EDA-4C77-493F-A283-C8697124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70BB-92B6-4E0A-B2C0-748B8E1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36F9-03CA-4614-831D-A57262D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ED3A-59CE-430C-9410-BFEDFF5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E4F-9F2A-4F6A-A5CA-06E0199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EB9E-7FBD-463C-8E07-F728CDF9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A430-CAE1-4AA4-A909-EB38E1C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070E-D960-4CF1-A0D4-2D0AA98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344D-6BE3-473A-B89B-2A53495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798A-06D9-4036-9607-40A594DD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53B1-3648-4FA3-86C2-2B597AAB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398F-565B-499B-B25E-95A9B7EE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79F5-E256-47E5-AC2D-0D564BFA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B59F-60E7-4A35-9068-78AB421B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D137-03CB-405F-9F8D-CB1971E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540-ECAB-4A10-BC25-B3CD283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E61D-ED74-4AE9-A041-56B41F70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F6F5-D2C2-4625-A2C1-FB7008C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8E43-C3FF-4683-A4D5-2879BF4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7743-9E0B-45E3-8038-F541A57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BADF-6D06-45A3-9BA7-1A6519F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9C00-CD64-4279-849A-C065573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5875-4874-4A41-806C-18E9BE6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4850B-EAC3-4697-9FBD-76D303E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85A9-E444-4C25-8D60-AF32FE94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B2D9-61F9-48AE-AB66-A1CFD2C7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2FC-2966-487B-8038-3C76D5C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7CB6-892D-455D-A22F-B2DD6E66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977B-F907-4210-BD98-7F25C42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7BD1-D587-47FD-A3FF-2778EEF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19B5-F778-4C31-8E4F-10E56AC0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CFF4-2726-40F9-A13A-2B12E8FC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5337-0C4E-4FC7-9A15-080EB02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790B-C26F-4C67-AED6-4E80DE81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DA719-EC14-4DEE-B8D5-A82D9C1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B9AAF-F9BC-4EC4-98EF-04F72F8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24476-F08C-413C-8E33-8B4FABF5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C55-AF03-4129-BB93-3E1F0AED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124C-853A-4B5E-90FE-277A3505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D0A-C5A7-4942-B977-F97DFEF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5FE-DF8D-42AD-85E5-48F1469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DB2-1EBC-4CBD-A1EC-891274C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105B8-A27F-4F67-B708-78144C80380B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1C4C7-D236-4572-A703-165567047EB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C3C92-1473-4A01-9F91-9EF0E3CF1B39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F75D1-5ADA-4E81-ACAE-B2A7EA926A0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DE401-07EA-4B26-BF2E-99D69438B95A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06D02-8DFE-4C08-8371-967E5604AD5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D5757-264A-4306-AB54-796991C3C25F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FD801-060E-4D90-A60A-195C89A550A3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B8F3D-400F-4009-B0F4-F2D54EE8AEAA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CD641-8E86-4484-BC9F-562D9AF4A9E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9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8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Grade Career Uni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 we look through the following 3 job posters, consider the following question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does the poster capture the reader’s atten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stands out to you the mos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important information is included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20080625161517_3b53089u_500"/>
          <p:cNvPicPr/>
          <p:nvPr/>
        </p:nvPicPr>
        <p:blipFill>
          <a:blip r:embed="rId1"/>
          <a:stretch/>
        </p:blipFill>
        <p:spPr>
          <a:xfrm>
            <a:off x="2209680" y="320760"/>
            <a:ext cx="389916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spring_08_copy"/>
          <p:cNvPicPr/>
          <p:nvPr/>
        </p:nvPicPr>
        <p:blipFill>
          <a:blip r:embed="rId1"/>
          <a:stretch/>
        </p:blipFill>
        <p:spPr>
          <a:xfrm>
            <a:off x="2230560" y="320760"/>
            <a:ext cx="467496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bold"/>
          <p:cNvPicPr/>
          <p:nvPr/>
        </p:nvPicPr>
        <p:blipFill>
          <a:blip r:embed="rId1"/>
          <a:stretch/>
        </p:blipFill>
        <p:spPr>
          <a:xfrm>
            <a:off x="1523880" y="685800"/>
            <a:ext cx="550872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will be creating a job advertisement poster for a position of your choice at RAMtronic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goal is to create a poster that will accurately describe the job and encourage applicants to appl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poster must inclu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atchy titl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itle of the position offere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Job responsibil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quired skil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mpany Contact Informa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ictu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USE PEN!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**Use persuasive language to convince people to apply!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01:59:53Z</dcterms:created>
  <dc:creator>Ben Dalziel</dc:creator>
  <dc:description/>
  <dc:language>en-US</dc:language>
  <cp:lastModifiedBy>Ben Dalziel</cp:lastModifiedBy>
  <dcterms:modified xsi:type="dcterms:W3CDTF">2009-07-01T18:45:41Z</dcterms:modified>
  <cp:revision>5</cp:revision>
  <dc:subject/>
  <dc:title>Job Advertisement Poster</dc:title>
</cp:coreProperties>
</file>