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640B-C144-4A5A-BD91-8FEB56B14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C9A5-2A45-4013-ADC3-9BC4BC13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7446-4A14-4D4B-964F-F95F7260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FEA-0EE2-45B1-95EC-8724EE6B2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851-7FA3-408D-9FE3-2A2975EF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068-F299-4C23-B2BB-DDB88DE8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5EE8-8CFC-49C7-9881-900ED393F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3884-907D-4D0D-AF08-4D813E030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37FC-653B-4039-A847-59073EBF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27F-DF85-4072-BC9B-1053D45B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CD94-95F2-486A-91F0-7827CED25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2FBD-DDEA-4BAD-84FA-15C7E0DD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D87F-8219-4FA9-A059-99E451E04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58920" y="1844640"/>
            <a:ext cx="35974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0:38:52Z</dcterms:created>
  <dc:creator>Mariajose</dc:creator>
  <dc:description/>
  <dc:language>en-US</dc:language>
  <cp:lastModifiedBy>Mariajose</cp:lastModifiedBy>
  <dcterms:modified xsi:type="dcterms:W3CDTF">2010-03-20T22:33:13Z</dcterms:modified>
  <cp:revision>4</cp:revision>
  <dc:subject/>
  <dc:title>Texto</dc:title>
</cp:coreProperties>
</file>