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E342-4D09-4EF1-BE15-492FA66C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B989-2599-44D5-BD9D-76AD669C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33B8-83F4-4683-9F65-BFD60683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83D5-602D-46B7-8DA7-CFDF2021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4AE-EA86-4F26-B583-E1C78785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714C-748A-4617-979C-1E86A7D7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2473-C5A9-4BEA-8DA3-211BBB73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6ACC-A26B-4923-8150-BAAAE981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6121-49B6-4BFD-BF8B-FAEBC939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267F-7838-4C8F-A2AC-2ACD6785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4611-7DD4-447E-B591-F3BF3CF9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19E1-DF01-460D-805B-6D15879B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 August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Lynda Bourne - 30241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8718-11CF-4E52-95A5-E5970986D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Research Proposal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Lynda Bou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20341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BUSM 14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ECD-6218-40C0-972F-A1D2754AC2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Research Methods -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ampling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rough Project Management professional bodies, personal and business I will attempt to identify target companies and project to participate in the research.These project must have the following 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A six-month lifecycle time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Specialisation – specialist are only part of the team for the input of their specialist ad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Have a core team of 3 –5 memb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lect five (5) projects representing a selection of industries and project types from the following se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Service Organisations using complex infrastructure including IT solutions as the main mechanism for delivery of that service (banks, telc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Government (bureaucrac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Large traditional engineering (eg Ships, Brid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77EA-4AF5-42B6-9693-30FAB3F2B1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Research Methods -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ime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Research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Develop Research Propos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and obtain appro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Develop and test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Develop and test t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Obtain particip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Administer instrument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Ongoing data collection and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Final collec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Research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581280" y="1744560"/>
            <a:ext cx="5181840" cy="4199040"/>
            <a:chOff x="3581280" y="1744560"/>
            <a:chExt cx="5181840" cy="4199040"/>
          </a:xfrm>
        </p:grpSpPr>
        <p:sp>
          <p:nvSpPr>
            <p:cNvPr id="63" name=""/>
            <p:cNvSpPr/>
            <p:nvPr/>
          </p:nvSpPr>
          <p:spPr>
            <a:xfrm>
              <a:off x="3733920" y="1981080"/>
              <a:ext cx="457200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33920" y="2438280"/>
              <a:ext cx="38088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62520" y="2971800"/>
              <a:ext cx="6858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3429000"/>
              <a:ext cx="12189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91120" y="3886200"/>
              <a:ext cx="9903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81480" y="4343400"/>
              <a:ext cx="3049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480" y="4800600"/>
              <a:ext cx="312444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24680" y="5257800"/>
              <a:ext cx="5335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33920" y="1981080"/>
              <a:ext cx="502920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077320" y="5715000"/>
              <a:ext cx="6858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72200" y="4343400"/>
              <a:ext cx="3049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086600" y="4343400"/>
              <a:ext cx="3049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01000" y="4343400"/>
              <a:ext cx="3049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81280" y="174456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0000"/>
                  </a:solidFill>
                  <a:latin typeface="Times New Roman"/>
                </a:rPr>
                <a:t>Day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8305920" y="175248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Day 34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D33-3FBB-4B14-926E-073B6745AB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thic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ntellectu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ontinuous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0FD8-A73A-45D8-A74B-0DEA8AE177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imes New Roman"/>
              </a:rPr>
              <a:t>Supporting Project Manager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imes New Roman"/>
              </a:rPr>
              <a:t>building sustain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3200" spc="-1" strike="noStrike">
                <a:solidFill>
                  <a:srgbClr val="000000"/>
                </a:solidFill>
                <a:latin typeface="Times New Roman"/>
              </a:rPr>
              <a:t>relationships for project suc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4BF-3D7B-413E-825C-6A9733CC27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In the current project environment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Many team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6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will only be part of the team as long as their specialist skills are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6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come from different organisational backgrounds and cult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6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may be geographically disper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A small core team will be responsible for project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Organisations change constantly - a project’s stakeholder set will chan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6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enior Managers change roles or change compa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6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The ability of stakeholders to influence the project may increase or decr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he Project Manager is still accountable for successful delivery of the project; there are good reasons for project responsibilities to be shar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6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haring workload and coaching of less experienced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6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Knowledg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This project will investigate the effectiveness of a tool - the Stakeholder Circle - to provide support for the PM and project team in managing the project’s stakehold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8210-60C2-452A-A550-91B99D8BB5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Topic de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tatement of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search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search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approa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ampling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time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cope and location of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C3F2-FB78-4B5B-BEE7-BB820E723E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Managing relationships for project success is acknowledged as being as important as the ‘hard’ skills of managing schedules and budg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he Project Manager’s accountabilities include relationship management (Stakeholder Manag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A project’s stakeholder set does not remain static throughout the project and needs to be identified, tracked and managed appropriately throughout the project 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In large organisations today, many projects have team members from many different organisations. Teams consist of staff, contractors, and staff of other 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As specialists move in and out of projects, there is a small core team that manages throughout the lifecy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his core team should share responsibility for Stakeholder Management: workload management, coaching, knowledge management, personality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o facilitate this sharing it is essential to have a solid process and the support of a to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4F8-E939-4FE6-942F-B6034742DC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How can a project manager ensure all stakeholders are identified and assessed for importance to th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How can the PM fulfil responsibilities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spired leadership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lationship (stakeholder)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knowledg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R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DB95-3DF3-4E81-9C4C-CA2D31FBBD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Main objective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o identify ways to improve the building and maintaining of sustainable project relationships for project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ub-objec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1. To determine the effectiveness of a visualisation tool for stakeholder manage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D45E-3E85-41C9-B131-B386B8F49F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Research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1.  How effective is the use of a visualisation tool for project stakeholder manag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028B-67C4-4D3B-BA35-E6BDE6FD84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Research Methods -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Deductive Approa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esting theory through observation an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Exploratory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urposive, self-selection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Longitudi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rojects must be around 6 months in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n-depth interviews at beginning and end with 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roup interviews with key team members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elf-completion di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o track issues and changes in stakeholder relationships with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DB59-75F2-40BF-A5FD-D7259489D4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1T00:13:11Z</dcterms:created>
  <dc:creator>c867667</dc:creator>
  <dc:description/>
  <dc:language>en-US</dc:language>
  <cp:lastModifiedBy>c867667</cp:lastModifiedBy>
  <cp:lastPrinted>2003-08-05T05:18:10Z</cp:lastPrinted>
  <dcterms:modified xsi:type="dcterms:W3CDTF">2003-08-14T04:19:36Z</dcterms:modified>
  <cp:revision>25</cp:revision>
  <dc:subject/>
  <dc:title>Research Proposal Presentation</dc:title>
</cp:coreProperties>
</file>